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504D-5B9C-445A-97EE-C83AF0E33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E3E1-7665-451E-BE56-CF0BB5B1A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746D-EB1F-42BE-A412-34A50B959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7190-52E2-4EE0-B8E7-ED03AAE8C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CDAF-5669-4263-984F-2772020AE7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E021-0381-4843-9B7E-9BDF9A1FD2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D082-ACA6-42CE-B506-86C45350E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E031-D61B-4DA8-8E93-3FAEFC86F7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8D6B-48AA-4426-A338-810BC3C11B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8B07-5FC6-4D8E-B249-6FD0B6C099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E5CA-52FD-47B5-9FE8-9578ED319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F953-295C-4449-A758-452071995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750E-C234-4F99-8A2D-0885AEF996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F59D-8311-4733-9CF2-DC5D06E988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6150-3302-4CAB-84DB-D1704F2A28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AFD6-89CE-4B62-B7CC-6931E734A3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DCD9-891A-4734-942F-63E004E85D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F2C6-2FE7-4F8C-8A80-A98368A17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52FF-4BAF-4F8B-BAAC-88AE8678A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0A4A-BBF2-4495-A7DD-77C7959C4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4899-3E50-45D5-BE0B-93CB332CB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3E81-3A23-4800-A0DF-1DFAD11CB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8026-50BD-4511-AFEE-EE080BB76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FE37-5850-44EF-A030-DB2C90D98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717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3589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54648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73404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E0BA-98C4-4407-ACF3-A5623E9D9682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2F91-63AD-4D7A-BC77-8DF4353D7673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per Limb Case #1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</a:rPr>
              <a:t>Table 36</a:t>
            </a:r>
            <a:endParaRPr b="0" lang="en-US" sz="22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arah Abbas</a:t>
            </a:r>
            <a:endParaRPr b="0" lang="en-US" sz="22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Jeremy Jacobs</a:t>
            </a:r>
            <a:endParaRPr b="0" lang="en-US" sz="22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rian McQuillan</a:t>
            </a:r>
            <a:endParaRPr b="0" lang="en-US" sz="22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avid Smith</a:t>
            </a:r>
            <a:endParaRPr b="0" lang="en-US" sz="2200" spc="-1" strike="noStrike">
              <a:solidFill>
                <a:srgbClr val="878787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eakness of thumb muscles (thena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ss of touch sens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ositive Tinel’s sig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mpression of the 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median ner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rpal Tunnel Syndrom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plint the affected wrist, 2-6 week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SAIDs (aspirin or ibuprofen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e a specialist if there is atrophy of thenar muscles or continued weakness for an injection of corticoster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rgery (cut the transverse carpal ligament to relieve swelling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marL="289440" indent="-289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ellman, David B., Current Medical Diagnosis &amp; Treatment 2008, Forty-Seventh Edition, "Musculoskeletal Disorders- Carpal Tunnel Syndrome." 2008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89440" indent="-289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etter, F.H. Atlas of Human Anatomy (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ed.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89440" indent="-289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une, E. Gene. Current Rheumatology Diagnosis &amp; Treatment, Second Edition. 2007. "CH 6: The Patient with Hand, Wrist, or Elbow Pain"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arris: Kelley’s Tesxbook of Rheumatology,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ed. 2005. “Common Etiologies for Hand and Wrist Pain.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hief Complaint and HPI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marL="289440" indent="-289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35 yr/o female, computer software executiv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urning/tingling sensation in left h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ymptoms progressing over past 3 month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calized to thumb, index, middle, and lateral side of left ring fin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ifficulty grasping obje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requently drops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Vitals Norm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Grande"/>
              </a:rPr>
              <a:t>Vital signs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Blood Pressure: 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130/80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Pulse: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75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Rhythm: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Regular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Temperature: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99.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Grande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F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Respiratory rate:  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17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Height: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5’10”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150 lbs.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HEENT Examination:  Normal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All other systems: 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Normal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usculoskeletal Exam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nar eminence of left hand flatten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nor loss of touch sensation on thumb, index, middle, and lateral side of left ring fin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ositive Tinel’s Sign (tapping over the median nerve on flexor retinaculum caused pain to shoot from wrist to hand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ss of strength of certain movements of left thum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’S IN THE FOREARM AND HAND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natomy of the Forearm and Han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3880" y="1217520"/>
            <a:ext cx="6067440" cy="46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natomy of the Forearm and Han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1297080"/>
            <a:ext cx="547704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natomy of Forearm and Han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6280"/>
                <a:gridCol w="1646280"/>
                <a:gridCol w="1646280"/>
              </a:tblGrid>
              <a:tr h="3816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ner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ri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2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or Pollicis Bre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hen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n 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or Retinacul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pez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ximal Phalanx of 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es the Carpometacarpal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carpophalangeal joints of Thu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9144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nens Pollic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hen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n 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or Retinaculum Trapez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ft of 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etacar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ses the Thu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9636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ctor Pollicis Bre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hen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n 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exor Retinacul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pho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pez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ximal Phalanx of 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i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cts the Thumb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d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’S THE DIAGNOSI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ian McQuillan</dc:creator>
  <dc:description/>
  <dc:language>en-US</dc:language>
  <cp:lastModifiedBy/>
  <cp:revision>0</cp:revision>
  <dc:subject/>
  <dc:title>Upper Limb Case #1</dc:title>
</cp:coreProperties>
</file>